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F072-5DEF-4E2B-BEF5-C46952DC99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FDFF-C5EC-4E72-93DC-268CD588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B4C67B-CD2A-4350-916F-C9DDAF5E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78A831-3A84-47A3-9C65-E2FC7150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E6282F-F059-4629-9B1E-1838FE15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0E2801-0F7A-4E16-881B-57A1AD28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B0EE81-82FD-426D-B081-C08B67A5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640132-45C8-4FF1-AFDD-31E0F3FE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4BA7AA-3A1C-42F8-904B-F6F45216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BC5A6D-80EF-4764-B094-4E8EFAEF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DE1758-C9FC-48B0-A7C9-BFDE481B15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6E837-2F33-4478-945A-A63AE39813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67D7-9574-4061-A9F4-7299F424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5E902-9C03-47D8-BA22-03375EA7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E80FC-E8F4-427D-BB03-6BE86548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8966E-CC5B-45C2-9CB1-0DD9611D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469C5-C7FD-4401-9F2F-436A0683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EA25A-8407-4946-B5D6-DE2DD799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8A825-586D-4A86-A2CF-39898D32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F9A95-E55D-4E44-AAD6-3A137A55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3BF3C-26E7-44BA-B67C-A56287F7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A815D-F6AB-4EEB-8501-B79D5404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546AD-1652-4AA9-A808-97AE8BBD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8344B-D9EB-4997-80E5-77BFBB0160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55CB3-7598-4137-8D5C-AA339E07EE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E8A2CD-FE53-4E47-8864-AC39E3BF66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3833FA-97BC-4E0C-B4D8-FB518D7A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84E6F8-BA19-4194-BC11-29ED9B76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B4752E-2F10-431B-A0AC-6CD1E50A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6B60D0-79B9-4331-8807-894FE4C8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A0B245-0E0A-4723-A396-6E42B599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DC317B-0116-4F6A-A2F4-6DC2BA96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CB945E-6856-4DCE-B730-565EB308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3FEE37-D580-4983-9A99-3896CADA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CEDC6-0645-4E89-8F46-E9116D2B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174A0C-1DE0-47F2-9C2C-00CBB364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F66061-93EC-4CD5-ACF4-19691039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E87528-3DBD-40B8-BBE9-D686783AB9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B0CFA-FD20-40C5-9DEE-39826B9AC1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F0CA4-C85B-47A1-88E0-99A310A3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2657C-C74F-4FA2-93F2-B8EB0AB0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4FB39-3AC9-4577-9187-6701F93D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CB69B-5EF9-4134-8B35-7CAF8FD6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EB1AD-CA32-4AD9-8353-DF6403CD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6EC1B-8211-449D-A24F-C5511B57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40893-EBB2-40B3-8281-853A979D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26C72-EAE7-42E8-ADA5-28D0A39C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B1118-1A71-467E-AF59-AB1B551F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38F70-735F-4B01-AFF7-4B78E7A7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6A19C-2989-48D3-8BC4-BA4BCD36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CF408-0792-4EF6-B01B-15AC9E3706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717C0-4E39-4070-8C14-4A7E470A15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5F4F2-B179-4362-A826-5438B5A3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6C86B-EF1A-4128-90F1-5A01B89C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331AB-50E4-4B16-B77C-32027922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40F8B-D629-452C-8584-BE8A3A05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C28F0-C2E2-4D73-B925-50214828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A7B9F-D0F0-4D57-B33E-F603D017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2E0FE-2936-42C7-B915-2C19FEE1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B63BF-E02A-44F8-B2D4-051296BE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12008-9315-4C0E-9452-5AFCD4B3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C775E-4B18-4AF2-A94C-0D9B6CBE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582F3-1464-4550-A676-0731EDD1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A5195-3135-404E-93D8-8C54D13D86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70996-462D-40F7-B09C-36359FA6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FEE1D-9E10-4B90-8268-233B7E91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40736-EBBC-4B78-87E0-ABB144D3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A4246-374D-40ED-860D-829550B3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C41B4-1F55-4E13-8DA5-A6E29C18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1A321-5231-450D-8204-5DEBA4AD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FB2E2-B33F-4B98-BCFB-27696A90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F8DCC-8DF0-4668-AE30-2D4446EE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57EB5-7CE1-4D15-82A5-D00DA73E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A8FFD-5262-4CC9-991A-A3545AD6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A2DA9-E09B-4240-9888-F3B9B654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342AB-16BA-48FC-9575-ED5D1246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3FF75-5235-4706-9C34-48AB123B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8877D-A26E-4E6E-BDD1-F722DFBE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B5902-3DE5-42E5-8369-73871338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27388-23A0-4A92-9125-F099924E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80DC4-1612-4DB7-8D05-B9FD28BF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148CC-237B-491D-9CFF-F5AE7EF5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DA1FC-30B2-4C43-B5AA-55BB5E6D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5DF18-92AD-481C-BCEC-7CD090A6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1CF07-66C9-4547-97DD-DFAE3764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7D473-FD48-48F0-A019-CDBC6F69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29D5D-A132-446E-88A2-6B4DD83A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EA7A3-9F73-44C2-A580-76704CDD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6EB46-CF14-4CB7-B379-CDB2BFDF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A16B3-DDE9-4132-9ADB-B14226B4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2A385-A543-4D41-821F-653A9A6F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984E7-710C-4500-AA4B-0A44DAB9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033C4-C0AA-4F75-AB70-44C0B264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D02E9-FABA-439C-AD3B-00EFDD92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31CA5-E1A1-436A-AC90-A3E6F283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B01C7-556E-4E15-97A2-36425789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35B1D-B7AA-4048-B4C5-EE9B87AD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D2711-5885-4B39-84D2-097C4156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40732-1E43-4F29-B49F-AD1E5379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ACF6F-EE2A-4991-8DF0-19E43A3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C8FDB-9DAE-45A3-AD2D-AD8815FE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8CAC7-1C8E-47A5-AB83-7059EB4C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CFAA3-429E-4ACE-A1F0-536D763B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25A1C-CE6C-48E3-8DE2-1137667C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2D500-E3A0-4773-BEF3-F4876B00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D71DB-C1CE-4B39-A893-C5D57B54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A5039-5D06-4E67-8EB3-8141A75B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3FDBC-1677-4D54-B106-3D849AE4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A8CD0-F4C7-4EE9-8695-20AD9349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5F931-4261-49F2-BC5D-389C3F91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A987D-EE20-457B-A485-A6255AEE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8AEAB-27AD-41CD-BF07-ABDB0D8F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7FABF-32C7-4AC3-AE05-640B2281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B9EFE-FCE9-4794-8BA8-FB9E313B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1910A-273E-4AE9-84FE-E0FC76B2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5DA64-9B86-4E6F-A4CD-2352643C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8BD7D-6E87-476C-A93C-90366B3C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1C7AE-40F1-4CD1-96B0-B892270F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0CD034-47B7-40BF-9A49-4D25A20C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6BF04-B739-4B9F-9378-0C9C8848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64DBB9-46D3-4C64-A640-64784E0F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32A99D-31A8-4A50-9554-5CE2676E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033A0-1AEF-4E43-85FC-2B5D194F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F2199-F19E-45A0-89B7-683FFE4D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E4D1F-17BC-4513-A618-29B54B6E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AF468-FCB6-4235-8B7B-54665075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69421-DB1E-4F0C-88B2-69E2E4EF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2844A-AE2D-4680-80FC-85922166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A067DF-CE0D-4938-AD60-AA382357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4872D-693B-413A-AC1B-27D8868C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40AAE-2AA0-4589-B9BE-ACDED006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C039B-2D47-47E3-8C4D-EC6454F3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8E02A-11E9-4F72-96D1-AD437BC3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49F2A-C1E0-423A-AB79-632F4755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E2A98-7777-428E-8F4E-03BE0DDC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2FB7DA-8758-40F7-8BCD-15FAEF74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12312-8201-41E4-82EA-AE89F2ED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6BA45-B68C-4533-BC2A-91609676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0C129-773E-40AC-85C6-33E768B4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6D9E68-8992-46E9-99B7-C7CDCD21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B6810-B27A-4811-AA33-FB5AA66F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D1BD5-47BD-4980-AFE0-60321E71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BD6932-ECBB-43D6-B366-0CC36B7F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C301D-AC41-4599-A822-A1980203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E17FD-EAC1-41D0-9DA8-D51AE817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419D4-01A2-4C94-9FA8-F0B436B4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73801-3B1F-49E9-90FE-4EE1E3A8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40893B-E51F-4866-98B7-647606C6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1B985-4370-45E9-8EA5-267B2596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9356A-B4D8-40AD-908B-7D54BF4F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D6784-F308-4404-A203-3ECB11EB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EF2AA-A086-4170-9621-5597587D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7E565-C9F3-4F73-9E61-2DC0A3F3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70438-4B11-4F93-A567-EF53542A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D8FB50-B101-432C-9150-DA65FD5D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A7F31E-E513-4843-BF65-3C786061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A2A8C-09EF-4712-B44E-2A3E3976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F6B621-3EA6-45B4-ABA8-0E85FE21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6746A5-1841-495C-AEFE-ADC9450A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F2A181-211F-4949-B293-486B507F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12FCB-B925-4D1C-BCBC-9CD7F62E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FD7EE-EFE4-46A5-9961-495DB9B2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E6CC0A-B0F7-4140-8478-B1AFE16E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CF6212-D7C6-4235-A30C-61E63949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E4AD53-1A03-4386-BA08-BB2812B0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8AFEAF-D221-4E5B-A0DA-FF4421FA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365911-BEDA-4E0E-AAA1-089C431D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10A869-29DF-4DAE-9312-C222F1360A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BD259F-8787-47C6-85A4-C235A394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F28446-9BD3-4F5F-A52B-B6FA08E9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5EAED0-44C3-41F9-A968-23E5BE22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8175DE-A9B6-4AF6-90D9-9795AB2C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04F5F8-CDF6-4BBF-BEE6-41EEA2F0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EFAC2-4EB5-49B3-8F6B-8A14425A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E92B52-5F95-45B7-95E7-9A8F749F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92028D-39E3-4808-AA42-C836016B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DCAC6-109A-4DE6-B5E1-59BE957E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0649B3-DDD1-4BD3-8A33-24BD7FAD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3D372A-A603-4854-8BDE-53B06576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D6C623-D268-4652-8F79-A4BED339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E83D3-5752-44AB-9E9F-46AAB796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C40C31-B793-4717-B4BA-51951606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98EA05-9AFD-4607-8A71-B39CCC41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A0F1A-2F3C-4148-8842-F55C03FF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8040BA-7D54-48EA-BBE4-C4D9224C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F1D7DB-9E53-422E-8434-64F8AAB3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2FA54-DFAA-4CE1-BCC9-1303680E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5BB512-7F87-4C4E-8014-B3A3A5EA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827689-1938-49E6-B512-2533854D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AF66F-6477-46D8-9D83-A9566F0C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FB11E4-7B87-4D14-A2B2-49FA96B5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4B8324-0E5C-4394-A8B2-5C65B6F5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870774-E5D2-47CC-883D-5AA9998D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80A04D-5B81-4E8E-8F9F-CF913B03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50E102-E5FA-4FE1-9DF9-977F2207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D95298-0425-480C-8F11-065CA770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C92F66-BF44-42A9-911B-8CC9D700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B68AC-E93A-497B-8A56-EA8B455A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9D473A-C585-4F06-A7D3-F8B2C3F2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F2EAD8-A4FF-4E23-A68D-698E2EAC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5A910-F7C3-40EB-BBCC-9D904482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599215-EFFC-4C00-850F-2EBB4AAA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7BF4EE-C0B8-4453-B7E3-E7980CDA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288146-119A-4027-8F3B-FDB57582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A73401-FEE8-4E03-97F1-D0489CF4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410DA-F0C4-42BB-A098-7CC8D4B7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A94C87-9001-4C08-9C3A-F689F2CD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6DCD23-1CD8-4514-B06C-0B702B17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0A41DF-0A00-4BC4-ACE6-F6A646C3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77B72A-0662-4876-A65A-FF5F1D46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23ABC8-A8F5-4BD8-A72E-C52374B0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496E4-82FD-4632-ACF3-3C84FBE0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968D6-24CA-4157-9409-0E054AF5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24EF19-B20A-4656-9E22-439C0717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A2FF80-CE5E-4D26-A63F-A1CECB63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BB5A4-F687-4D36-B403-841F103A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DDD835-AB22-46F0-90B2-D2972281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D95D93-0941-4559-A978-B94E20B4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7CE084-26D2-43AE-98DE-6CC3215C1E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260D4-C98C-4730-9541-D972EBF608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3824-6E94-49FE-BD5D-4FC58EE6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EA4C7-8FB8-4943-8A80-794CC6A3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113D1-0F36-46F6-BB49-CC2CEE0A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6F522-60CB-48EA-9EF4-20BAB15E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DEA79-07BA-496B-84A1-0B616B0F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6637-A443-44FD-8122-CF9AEF75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773FF-E892-4F90-9D1E-24F036BD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6817E-D352-405E-942A-28A84E7D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1CF38-6995-494A-8991-37DC9693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4C911-8C5C-4F8A-BD37-2BC04340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102B4-1571-4826-90F6-F996D321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1E13-4A23-4F76-A182-B2EFE6E219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4B854-1221-4DC0-9BF7-4398E8C9C1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3B00-E7F1-4DBA-A3A6-E9AA03A1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0FFD6-873A-481B-8935-698A027A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6B8FB-5C54-4B58-A184-C9C1362C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C5E34F-94D8-4F43-8ED4-DEE528F0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D41E93-6D11-4A1C-91F2-72C59F8F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C0592C-651E-4F0D-AAB2-825166A8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1946E6-6A1F-4317-BE72-A755AF54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1B001B-4AD6-4704-8953-E4B78F14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288382-CAE4-40BA-A4BB-E22CB33D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844E1-E4AC-4CD3-AA42-12991239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DDD541-EFA3-4E38-AE83-38359B50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BA74-18C3-466C-9E33-990D0D71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C680B5-C2E8-42DF-B5F9-30923A87C1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A76E62-FA9E-4CC6-99F3-689BEB9A30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0358E0-40C2-48A1-9612-C937D67B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E26473-0968-483B-8A3F-2D8AF793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4CDBCD-6925-4B9F-9F65-133880F7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200B0E-0892-4A60-85F6-313AC9B0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211E27-902F-422D-BFF3-B22EA789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F8B669-8E7F-471D-86C1-E1D0A9AD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C9FDB9-F1A5-4CEC-98EC-BF676B60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3B7262-41FE-4F71-A844-45DD7EBA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D8603-8631-4C9C-947A-F530A234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C730C4-F3C4-4ACD-B033-A67EF799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5BB43E-5916-49A6-AAD0-3CB63D75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A9F008-3E3C-443C-B1E4-9F73B4C462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4C1E0-C33B-4CE0-8789-17F9CF7836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7ED6D-6507-4091-8418-339C6C8B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908D5-E0C7-4238-A6B9-1EEDCA8F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5DF2B-63D6-4705-8929-5B38D317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154C8-F5D6-4BF2-82F7-7EE1E2C6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336D1-AEEE-48E5-92CB-5B93FC4A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EA3EC-4FD2-4914-8BB8-6689B8BC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880A-3B2F-4BC0-8A78-575BCD20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F6663-5AFF-49F4-A670-4BDC05D9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9471B-9A84-4A0B-B55B-199EFEAD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D49BE-D907-447B-92C7-F1D47488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5E3A1-0334-4B6D-A23D-B43137BB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C304F-6C38-476C-BB98-56F128BB8D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83BC6-09B5-4D1E-B652-E38149CA29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A2D94-8922-4E87-8C72-DA82C344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FE4F5-4A78-4E85-B1A4-87AFEDCD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A9529C-0818-4EDB-8995-77F8F4FA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5F6CB7-5C72-41FF-8D5C-C0E72A80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992D-4162-4746-9611-541075C8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82781-0601-4A86-8B05-A549F059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9850DC-95D0-486E-97D5-00ECB977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445DB-4E66-45C2-809A-382D73C1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5570B6-53D0-44A0-92A5-9B2071FE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EEE64-605F-454D-818B-FA9E9935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78D3E7-3095-4554-9D65-C452E3B6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5D4DD-148A-4BE8-81EB-8433461896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58C22E-F88D-457E-AF32-5998C83C83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CBEF43-8764-4A11-9D9E-6BF7D8C0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453489-5D6D-40A8-AF88-9CC4659C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4D68-55D2-46A1-9E6D-B1082EB0185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DA5F-5E9A-4B4A-968E-6932B75F34D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D792-8A2D-4D6A-90A8-0EA54792DBA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2300-6BE7-477E-95FB-433076F1D37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70C4-C10F-49BA-933F-E87644E4D2E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263C-794B-49B3-8184-6B9EB77517F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401F-2892-400C-9AA0-3E04A4702FA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B7EF-C50B-4373-A0E2-0421DF7D5D6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D439-C793-43D5-BF1F-AD7278D8FA1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7BEA-53AF-429C-9EA1-4597C5E637F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C5C1-CC43-4E53-A06A-7F2933BF94D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FA6B-7D07-4CE2-BC4F-21C31CC2E37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0E8F-8B66-448C-878B-85AF6520581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5563-FFF6-47A6-BD9F-C959AF0C8C2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B827-EF59-4CA4-8234-810DA5C2AD5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DFEE-454F-447D-A121-6C78BBE4E81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7AFC-0094-441C-B081-86D1CCA0E23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53ED-5BA4-434D-A57F-4AC8B3D62EE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B35F-53C1-4A75-8297-80A30304238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88F8-0A03-44F9-80BE-01CCF474B56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2D44-4684-4057-8178-348107C43A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E958-7C3D-4D68-9757-EC2010879B9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C937-9243-43AB-B685-EF4982A89C0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A655-F87F-41A9-B2DB-F80CD68AC40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6284880" cy="360"/>
            <a:chOff x="2284560" y="2448000"/>
            <a:chExt cx="628488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62848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6284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87480" y="1744560"/>
            <a:ext cx="88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以内的加法和减法（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1873080" y="2749680"/>
            <a:ext cx="5590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1316160" y="2728800"/>
            <a:ext cx="651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三 位 数 减 三 位 数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13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15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6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3" name="文本框 99"/>
          <p:cNvSpPr/>
          <p:nvPr/>
        </p:nvSpPr>
        <p:spPr>
          <a:xfrm>
            <a:off x="279360" y="1114560"/>
            <a:ext cx="811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小平正在看一本书，这本书总共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页，他已经看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页，还剩多少页没有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文本框 1"/>
          <p:cNvSpPr/>
          <p:nvPr/>
        </p:nvSpPr>
        <p:spPr>
          <a:xfrm>
            <a:off x="1700280" y="2416320"/>
            <a:ext cx="380844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5-256=349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文本框 3"/>
          <p:cNvSpPr/>
          <p:nvPr/>
        </p:nvSpPr>
        <p:spPr>
          <a:xfrm>
            <a:off x="1527120" y="3573360"/>
            <a:ext cx="472932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还剩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49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页没有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16"/>
          <p:cNvSpPr/>
          <p:nvPr/>
        </p:nvSpPr>
        <p:spPr>
          <a:xfrm>
            <a:off x="2379600" y="1774800"/>
            <a:ext cx="2163960" cy="647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5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Group 43"/>
          <p:cNvGrpSpPr/>
          <p:nvPr/>
        </p:nvGrpSpPr>
        <p:grpSpPr>
          <a:xfrm>
            <a:off x="2411280" y="2494080"/>
            <a:ext cx="2683080" cy="1189800"/>
            <a:chOff x="2411280" y="2494080"/>
            <a:chExt cx="2683080" cy="1189800"/>
          </a:xfrm>
        </p:grpSpPr>
        <p:sp>
          <p:nvSpPr>
            <p:cNvPr id="1011" name="Rectangle 51"/>
            <p:cNvSpPr/>
            <p:nvPr/>
          </p:nvSpPr>
          <p:spPr>
            <a:xfrm>
              <a:off x="2411280" y="2494080"/>
              <a:ext cx="26830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  5  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－  </a:t>
              </a: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  8  0   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直接连接符 23"/>
            <p:cNvSpPr/>
            <p:nvPr/>
          </p:nvSpPr>
          <p:spPr>
            <a:xfrm>
              <a:off x="2411280" y="3646440"/>
              <a:ext cx="202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Rectangle 51"/>
          <p:cNvSpPr/>
          <p:nvPr/>
        </p:nvSpPr>
        <p:spPr>
          <a:xfrm>
            <a:off x="3879720" y="357336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51"/>
          <p:cNvSpPr/>
          <p:nvPr/>
        </p:nvSpPr>
        <p:spPr>
          <a:xfrm>
            <a:off x="3468600" y="357336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51"/>
          <p:cNvSpPr/>
          <p:nvPr/>
        </p:nvSpPr>
        <p:spPr>
          <a:xfrm>
            <a:off x="3029040" y="3573360"/>
            <a:ext cx="57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51"/>
          <p:cNvSpPr/>
          <p:nvPr/>
        </p:nvSpPr>
        <p:spPr>
          <a:xfrm>
            <a:off x="4498920" y="1770120"/>
            <a:ext cx="172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"/>
                <a:ea typeface="宋体"/>
              </a:rPr>
              <a:t>＝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  <a:ea typeface="黑体"/>
              </a:rPr>
              <a:t>1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51"/>
          <p:cNvSpPr/>
          <p:nvPr/>
        </p:nvSpPr>
        <p:spPr>
          <a:xfrm>
            <a:off x="684360" y="982800"/>
            <a:ext cx="2374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算一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组合 16"/>
          <p:cNvGrpSpPr/>
          <p:nvPr/>
        </p:nvGrpSpPr>
        <p:grpSpPr>
          <a:xfrm>
            <a:off x="4211640" y="372960"/>
            <a:ext cx="4902120" cy="1360440"/>
            <a:chOff x="4211640" y="372960"/>
            <a:chExt cx="4902120" cy="1360440"/>
          </a:xfrm>
        </p:grpSpPr>
        <p:sp>
          <p:nvSpPr>
            <p:cNvPr id="1019" name="AutoShape 27"/>
            <p:cNvSpPr/>
            <p:nvPr/>
          </p:nvSpPr>
          <p:spPr>
            <a:xfrm>
              <a:off x="4211640" y="765360"/>
              <a:ext cx="3384000" cy="576000"/>
            </a:xfrm>
            <a:prstGeom prst="wedgeRoundRectCallout">
              <a:avLst>
                <a:gd name="adj1" fmla="val 55018"/>
                <a:gd name="adj2" fmla="val 351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笔算减法时应注意什么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0" name="图片 15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7835760" y="372960"/>
              <a:ext cx="1278000" cy="136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1" name="组合 18"/>
          <p:cNvGrpSpPr/>
          <p:nvPr/>
        </p:nvGrpSpPr>
        <p:grpSpPr>
          <a:xfrm>
            <a:off x="0" y="4216320"/>
            <a:ext cx="3668760" cy="1695600"/>
            <a:chOff x="0" y="4216320"/>
            <a:chExt cx="3668760" cy="1695600"/>
          </a:xfrm>
        </p:grpSpPr>
        <p:sp>
          <p:nvSpPr>
            <p:cNvPr id="1022" name="AutoShape 27"/>
            <p:cNvSpPr/>
            <p:nvPr/>
          </p:nvSpPr>
          <p:spPr>
            <a:xfrm>
              <a:off x="1741680" y="4223880"/>
              <a:ext cx="1927080" cy="891000"/>
            </a:xfrm>
            <a:prstGeom prst="wedgeRoundRectCallout">
              <a:avLst>
                <a:gd name="adj1" fmla="val -62995"/>
                <a:gd name="adj2" fmla="val 236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相同数位对齐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从个位减起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图片 17" descr="]@P`{@U$K{A7A$9804YYMFT"/>
            <p:cNvPicPr/>
            <p:nvPr/>
          </p:nvPicPr>
          <p:blipFill>
            <a:blip r:embed="rId9"/>
            <a:stretch/>
          </p:blipFill>
          <p:spPr>
            <a:xfrm>
              <a:off x="0" y="4216320"/>
              <a:ext cx="1334520" cy="169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4" name="组合 20"/>
          <p:cNvGrpSpPr/>
          <p:nvPr/>
        </p:nvGrpSpPr>
        <p:grpSpPr>
          <a:xfrm>
            <a:off x="4300560" y="4057560"/>
            <a:ext cx="4594320" cy="1805040"/>
            <a:chOff x="4300560" y="4057560"/>
            <a:chExt cx="4594320" cy="1805040"/>
          </a:xfrm>
        </p:grpSpPr>
        <p:sp>
          <p:nvSpPr>
            <p:cNvPr id="1025" name="AutoShape 27"/>
            <p:cNvSpPr/>
            <p:nvPr/>
          </p:nvSpPr>
          <p:spPr>
            <a:xfrm>
              <a:off x="4300560" y="4510800"/>
              <a:ext cx="3024720" cy="496440"/>
            </a:xfrm>
            <a:prstGeom prst="wedgeRoundRectCallout">
              <a:avLst>
                <a:gd name="adj1" fmla="val 59078"/>
                <a:gd name="adj2" fmla="val 139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哪一位上的数不够减，从前一位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6" name="图片 19" descr="_4`F[E$PX4I}_~SSZVJ7V4J"/>
            <p:cNvPicPr/>
            <p:nvPr/>
          </p:nvPicPr>
          <p:blipFill>
            <a:blip r:embed="rId10"/>
            <a:stretch/>
          </p:blipFill>
          <p:spPr>
            <a:xfrm>
              <a:off x="7703640" y="4057560"/>
              <a:ext cx="1191240" cy="180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28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9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30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1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8" name="Rectangle 51"/>
          <p:cNvSpPr/>
          <p:nvPr/>
        </p:nvSpPr>
        <p:spPr>
          <a:xfrm>
            <a:off x="1328760" y="971640"/>
            <a:ext cx="646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国产电视动画片生产情况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图片 6152" descr="未标题-39"/>
          <p:cNvPicPr/>
          <p:nvPr/>
        </p:nvPicPr>
        <p:blipFill>
          <a:blip r:embed="rId8"/>
          <a:stretch/>
        </p:blipFill>
        <p:spPr>
          <a:xfrm>
            <a:off x="792000" y="1631880"/>
            <a:ext cx="756144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040" name="组合 1"/>
          <p:cNvGrpSpPr/>
          <p:nvPr/>
        </p:nvGrpSpPr>
        <p:grpSpPr>
          <a:xfrm>
            <a:off x="1822320" y="3575160"/>
            <a:ext cx="6386760" cy="1361880"/>
            <a:chOff x="1822320" y="3575160"/>
            <a:chExt cx="6386760" cy="1361880"/>
          </a:xfrm>
        </p:grpSpPr>
        <p:sp>
          <p:nvSpPr>
            <p:cNvPr id="1041" name="AutoShape 27"/>
            <p:cNvSpPr/>
            <p:nvPr/>
          </p:nvSpPr>
          <p:spPr>
            <a:xfrm>
              <a:off x="1822320" y="3575160"/>
              <a:ext cx="4680000" cy="935280"/>
            </a:xfrm>
            <a:prstGeom prst="wedgeRoundRectCallout">
              <a:avLst>
                <a:gd name="adj1" fmla="val 56106"/>
                <a:gd name="adj2" fmla="val 19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观察这个统计表，你能从中了解哪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信息？你能提出什么问题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2" name="图片 15" descr="6)5][}VZ%@FXJ)FA]TI76$O"/>
            <p:cNvPicPr/>
            <p:nvPr/>
          </p:nvPicPr>
          <p:blipFill>
            <a:blip r:embed="rId9"/>
            <a:stretch/>
          </p:blipFill>
          <p:spPr>
            <a:xfrm>
              <a:off x="6931080" y="3575160"/>
              <a:ext cx="1278000" cy="1361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44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5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46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7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8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4" name="八边形 1"/>
          <p:cNvSpPr/>
          <p:nvPr/>
        </p:nvSpPr>
        <p:spPr>
          <a:xfrm>
            <a:off x="293760" y="1004760"/>
            <a:ext cx="54432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6"/>
          <p:cNvSpPr/>
          <p:nvPr/>
        </p:nvSpPr>
        <p:spPr>
          <a:xfrm>
            <a:off x="1000080" y="1004760"/>
            <a:ext cx="69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比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0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多生产多少部动画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7"/>
          <p:cNvSpPr/>
          <p:nvPr/>
        </p:nvSpPr>
        <p:spPr>
          <a:xfrm>
            <a:off x="2428920" y="2279520"/>
            <a:ext cx="2714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35-322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组合 8"/>
          <p:cNvGrpSpPr/>
          <p:nvPr/>
        </p:nvGrpSpPr>
        <p:grpSpPr>
          <a:xfrm>
            <a:off x="4857840" y="2565360"/>
            <a:ext cx="3571920" cy="1857240"/>
            <a:chOff x="4857840" y="2565360"/>
            <a:chExt cx="3571920" cy="1857240"/>
          </a:xfrm>
        </p:grpSpPr>
        <p:grpSp>
          <p:nvGrpSpPr>
            <p:cNvPr id="1058" name="组合 11"/>
            <p:cNvGrpSpPr/>
            <p:nvPr/>
          </p:nvGrpSpPr>
          <p:grpSpPr>
            <a:xfrm>
              <a:off x="4857840" y="2565360"/>
              <a:ext cx="3571920" cy="1571760"/>
              <a:chOff x="4857840" y="2565360"/>
              <a:chExt cx="3571920" cy="1571760"/>
            </a:xfrm>
          </p:grpSpPr>
          <p:sp>
            <p:nvSpPr>
              <p:cNvPr id="1059" name="TextBox 12"/>
              <p:cNvSpPr/>
              <p:nvPr/>
            </p:nvSpPr>
            <p:spPr>
              <a:xfrm>
                <a:off x="4857840" y="2565360"/>
                <a:ext cx="3571920" cy="157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4   3   5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- 3   2   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      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直接连接符 13"/>
              <p:cNvSpPr/>
              <p:nvPr/>
            </p:nvSpPr>
            <p:spPr>
              <a:xfrm>
                <a:off x="5429160" y="3780000"/>
                <a:ext cx="2286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1" name="矩形 10"/>
            <p:cNvSpPr/>
            <p:nvPr/>
          </p:nvSpPr>
          <p:spPr>
            <a:xfrm>
              <a:off x="5715000" y="385128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11"/>
            <p:cNvSpPr/>
            <p:nvPr/>
          </p:nvSpPr>
          <p:spPr>
            <a:xfrm>
              <a:off x="6357960" y="385128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矩形 21"/>
            <p:cNvSpPr/>
            <p:nvPr/>
          </p:nvSpPr>
          <p:spPr>
            <a:xfrm>
              <a:off x="7000920" y="385128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TextBox 19"/>
          <p:cNvSpPr/>
          <p:nvPr/>
        </p:nvSpPr>
        <p:spPr>
          <a:xfrm>
            <a:off x="3857760" y="2230560"/>
            <a:ext cx="714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1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22"/>
          <p:cNvSpPr/>
          <p:nvPr/>
        </p:nvSpPr>
        <p:spPr>
          <a:xfrm>
            <a:off x="7143840" y="387504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23"/>
          <p:cNvSpPr/>
          <p:nvPr/>
        </p:nvSpPr>
        <p:spPr>
          <a:xfrm>
            <a:off x="6500880" y="387504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24"/>
          <p:cNvSpPr/>
          <p:nvPr/>
        </p:nvSpPr>
        <p:spPr>
          <a:xfrm>
            <a:off x="5786280" y="387504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组合 5"/>
          <p:cNvGrpSpPr/>
          <p:nvPr/>
        </p:nvGrpSpPr>
        <p:grpSpPr>
          <a:xfrm>
            <a:off x="441360" y="2747880"/>
            <a:ext cx="4416480" cy="1460520"/>
            <a:chOff x="441360" y="2747880"/>
            <a:chExt cx="4416480" cy="1460520"/>
          </a:xfrm>
        </p:grpSpPr>
        <p:sp>
          <p:nvSpPr>
            <p:cNvPr id="1069" name="AutoShape 27"/>
            <p:cNvSpPr/>
            <p:nvPr/>
          </p:nvSpPr>
          <p:spPr>
            <a:xfrm>
              <a:off x="2215080" y="3208680"/>
              <a:ext cx="2642760" cy="999720"/>
            </a:xfrm>
            <a:prstGeom prst="wedgeRoundRectCallout">
              <a:avLst>
                <a:gd name="adj1" fmla="val -64893"/>
                <a:gd name="adj2" fmla="val 547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怎样列竖式？从哪一位减起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0" name="图片 15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441360" y="2747880"/>
              <a:ext cx="1277640" cy="1361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2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74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5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2" name="八边形 1"/>
          <p:cNvSpPr/>
          <p:nvPr/>
        </p:nvSpPr>
        <p:spPr>
          <a:xfrm>
            <a:off x="293760" y="1004760"/>
            <a:ext cx="54432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51"/>
          <p:cNvSpPr/>
          <p:nvPr/>
        </p:nvSpPr>
        <p:spPr>
          <a:xfrm>
            <a:off x="1785960" y="1144440"/>
            <a:ext cx="5222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3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51"/>
          <p:cNvSpPr/>
          <p:nvPr/>
        </p:nvSpPr>
        <p:spPr>
          <a:xfrm>
            <a:off x="3232080" y="3097080"/>
            <a:ext cx="5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51"/>
          <p:cNvSpPr/>
          <p:nvPr/>
        </p:nvSpPr>
        <p:spPr>
          <a:xfrm>
            <a:off x="2589120" y="3097080"/>
            <a:ext cx="5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51"/>
          <p:cNvSpPr/>
          <p:nvPr/>
        </p:nvSpPr>
        <p:spPr>
          <a:xfrm>
            <a:off x="3500280" y="1073160"/>
            <a:ext cx="906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4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椭圆 10"/>
          <p:cNvSpPr/>
          <p:nvPr/>
        </p:nvSpPr>
        <p:spPr>
          <a:xfrm>
            <a:off x="3343320" y="2131920"/>
            <a:ext cx="36360" cy="36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51"/>
          <p:cNvSpPr/>
          <p:nvPr/>
        </p:nvSpPr>
        <p:spPr>
          <a:xfrm>
            <a:off x="3503520" y="1641600"/>
            <a:ext cx="73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51"/>
          <p:cNvSpPr/>
          <p:nvPr/>
        </p:nvSpPr>
        <p:spPr>
          <a:xfrm>
            <a:off x="3081240" y="1641600"/>
            <a:ext cx="73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51"/>
          <p:cNvSpPr/>
          <p:nvPr/>
        </p:nvSpPr>
        <p:spPr>
          <a:xfrm>
            <a:off x="2744640" y="1641600"/>
            <a:ext cx="73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椭圆 14"/>
          <p:cNvSpPr/>
          <p:nvPr/>
        </p:nvSpPr>
        <p:spPr>
          <a:xfrm>
            <a:off x="2879640" y="2131920"/>
            <a:ext cx="36720" cy="36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矩形 21"/>
          <p:cNvSpPr/>
          <p:nvPr/>
        </p:nvSpPr>
        <p:spPr>
          <a:xfrm>
            <a:off x="1737720" y="627120"/>
            <a:ext cx="48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比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少生产多少部动画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24"/>
          <p:cNvGrpSpPr/>
          <p:nvPr/>
        </p:nvGrpSpPr>
        <p:grpSpPr>
          <a:xfrm>
            <a:off x="1932120" y="2101680"/>
            <a:ext cx="2682720" cy="1573560"/>
            <a:chOff x="1932120" y="2101680"/>
            <a:chExt cx="2682720" cy="1573560"/>
          </a:xfrm>
        </p:grpSpPr>
        <p:grpSp>
          <p:nvGrpSpPr>
            <p:cNvPr id="1094" name="组合 7"/>
            <p:cNvGrpSpPr/>
            <p:nvPr/>
          </p:nvGrpSpPr>
          <p:grpSpPr>
            <a:xfrm>
              <a:off x="1932120" y="2101680"/>
              <a:ext cx="2682720" cy="882360"/>
              <a:chOff x="1932120" y="2101680"/>
              <a:chExt cx="2682720" cy="882360"/>
            </a:xfrm>
          </p:grpSpPr>
          <p:sp>
            <p:nvSpPr>
              <p:cNvPr id="1095" name="Rectangle 51"/>
              <p:cNvSpPr/>
              <p:nvPr/>
            </p:nvSpPr>
            <p:spPr>
              <a:xfrm>
                <a:off x="1932120" y="2101680"/>
                <a:ext cx="268272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4  3  5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－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8  6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直接连接符 15"/>
              <p:cNvSpPr/>
              <p:nvPr/>
            </p:nvSpPr>
            <p:spPr>
              <a:xfrm>
                <a:off x="2006640" y="2984040"/>
                <a:ext cx="2016000" cy="0"/>
              </a:xfrm>
              <a:prstGeom prst="line">
                <a:avLst/>
              </a:prstGeom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7" name="Rectangle 51"/>
            <p:cNvSpPr/>
            <p:nvPr/>
          </p:nvSpPr>
          <p:spPr>
            <a:xfrm>
              <a:off x="3660840" y="2984040"/>
              <a:ext cx="576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矩形 22"/>
            <p:cNvSpPr/>
            <p:nvPr/>
          </p:nvSpPr>
          <p:spPr>
            <a:xfrm>
              <a:off x="3094200" y="310392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矩形 23"/>
            <p:cNvSpPr/>
            <p:nvPr/>
          </p:nvSpPr>
          <p:spPr>
            <a:xfrm>
              <a:off x="2451240" y="310392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矩形 28"/>
          <p:cNvSpPr/>
          <p:nvPr/>
        </p:nvSpPr>
        <p:spPr>
          <a:xfrm>
            <a:off x="2052000" y="3743280"/>
            <a:ext cx="38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小组讨论：计算万以内的减法要注意什么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组合 21"/>
          <p:cNvGrpSpPr/>
          <p:nvPr/>
        </p:nvGrpSpPr>
        <p:grpSpPr>
          <a:xfrm>
            <a:off x="4743360" y="2133720"/>
            <a:ext cx="3514320" cy="948960"/>
            <a:chOff x="4743360" y="2133720"/>
            <a:chExt cx="3514320" cy="948960"/>
          </a:xfrm>
        </p:grpSpPr>
        <p:sp>
          <p:nvSpPr>
            <p:cNvPr id="1102" name="AutoShape 27"/>
            <p:cNvSpPr/>
            <p:nvPr/>
          </p:nvSpPr>
          <p:spPr>
            <a:xfrm>
              <a:off x="4743360" y="2133720"/>
              <a:ext cx="2356920" cy="822960"/>
            </a:xfrm>
            <a:prstGeom prst="wedgeRoundRectCallout">
              <a:avLst>
                <a:gd name="adj1" fmla="val 61740"/>
                <a:gd name="adj2" fmla="val 33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十位怎样算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3" name="图片 20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7401240" y="2169000"/>
              <a:ext cx="856440" cy="91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4" name="组合 25"/>
          <p:cNvGrpSpPr/>
          <p:nvPr/>
        </p:nvGrpSpPr>
        <p:grpSpPr>
          <a:xfrm>
            <a:off x="731880" y="4248000"/>
            <a:ext cx="3278160" cy="1338480"/>
            <a:chOff x="731880" y="4248000"/>
            <a:chExt cx="3278160" cy="1338480"/>
          </a:xfrm>
        </p:grpSpPr>
        <p:sp>
          <p:nvSpPr>
            <p:cNvPr id="1105" name="AutoShape 27"/>
            <p:cNvSpPr/>
            <p:nvPr/>
          </p:nvSpPr>
          <p:spPr>
            <a:xfrm>
              <a:off x="1937880" y="4534200"/>
              <a:ext cx="2072160" cy="714240"/>
            </a:xfrm>
            <a:prstGeom prst="wedgeRoundRectCallout">
              <a:avLst>
                <a:gd name="adj1" fmla="val -56972"/>
                <a:gd name="adj2" fmla="val 3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从个位减起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6" name="图片 22" descr="]@P`{@U$K{A7A$9804YYMFT"/>
            <p:cNvPicPr/>
            <p:nvPr/>
          </p:nvPicPr>
          <p:blipFill>
            <a:blip r:embed="rId9"/>
            <a:stretch/>
          </p:blipFill>
          <p:spPr>
            <a:xfrm>
              <a:off x="731880" y="4248000"/>
              <a:ext cx="105408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7" name="组合 27"/>
          <p:cNvGrpSpPr/>
          <p:nvPr/>
        </p:nvGrpSpPr>
        <p:grpSpPr>
          <a:xfrm>
            <a:off x="2917800" y="5424480"/>
            <a:ext cx="3154320" cy="770040"/>
            <a:chOff x="2917800" y="5424480"/>
            <a:chExt cx="3154320" cy="770040"/>
          </a:xfrm>
        </p:grpSpPr>
        <p:sp>
          <p:nvSpPr>
            <p:cNvPr id="1108" name="AutoShape 27"/>
            <p:cNvSpPr/>
            <p:nvPr/>
          </p:nvSpPr>
          <p:spPr>
            <a:xfrm>
              <a:off x="3858480" y="5475240"/>
              <a:ext cx="2213640" cy="668520"/>
            </a:xfrm>
            <a:prstGeom prst="wedgeRoundRectCallout">
              <a:avLst>
                <a:gd name="adj1" fmla="val -68347"/>
                <a:gd name="adj2" fmla="val -112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相同数位对齐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9" name="图片 23" descr="_4`F[E$PX4I}_~SSZVJ7V4J"/>
            <p:cNvPicPr/>
            <p:nvPr/>
          </p:nvPicPr>
          <p:blipFill>
            <a:blip r:embed="rId10"/>
            <a:stretch/>
          </p:blipFill>
          <p:spPr>
            <a:xfrm flipH="1">
              <a:off x="2917800" y="5424480"/>
              <a:ext cx="507600" cy="77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0" name="组合 26"/>
          <p:cNvGrpSpPr/>
          <p:nvPr/>
        </p:nvGrpSpPr>
        <p:grpSpPr>
          <a:xfrm>
            <a:off x="4376880" y="4457880"/>
            <a:ext cx="4339800" cy="1271520"/>
            <a:chOff x="4376880" y="4457880"/>
            <a:chExt cx="4339800" cy="1271520"/>
          </a:xfrm>
        </p:grpSpPr>
        <p:sp>
          <p:nvSpPr>
            <p:cNvPr id="1111" name="AutoShape 27"/>
            <p:cNvSpPr/>
            <p:nvPr/>
          </p:nvSpPr>
          <p:spPr>
            <a:xfrm>
              <a:off x="4376880" y="4457880"/>
              <a:ext cx="3382560" cy="918360"/>
            </a:xfrm>
            <a:prstGeom prst="wedgeRoundRectCallout">
              <a:avLst>
                <a:gd name="adj1" fmla="val 57032"/>
                <a:gd name="adj2" fmla="val 330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哪一位上的数不够减，要从前一位退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……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2" name="图片 24" descr="AG]4}@PH9UX]GS)L_H5_`K9"/>
            <p:cNvPicPr/>
            <p:nvPr/>
          </p:nvPicPr>
          <p:blipFill>
            <a:blip r:embed="rId11"/>
            <a:stretch/>
          </p:blipFill>
          <p:spPr>
            <a:xfrm flipH="1">
              <a:off x="8062200" y="4533840"/>
              <a:ext cx="654480" cy="1195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文本框 19"/>
          <p:cNvSpPr/>
          <p:nvPr/>
        </p:nvSpPr>
        <p:spPr>
          <a:xfrm>
            <a:off x="1341360" y="1152360"/>
            <a:ext cx="6075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三位数减三位数退位减法的计算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20"/>
          <p:cNvSpPr/>
          <p:nvPr/>
        </p:nvSpPr>
        <p:spPr>
          <a:xfrm>
            <a:off x="279360" y="1897200"/>
            <a:ext cx="868860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计算三位数减三位数时，先把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相同数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然后从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个位减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哪一位不够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要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位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退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本位上的数相加后再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6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18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9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6" name="TextBox 1"/>
          <p:cNvSpPr/>
          <p:nvPr/>
        </p:nvSpPr>
        <p:spPr>
          <a:xfrm>
            <a:off x="285840" y="784080"/>
            <a:ext cx="221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列竖式计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组合 11"/>
          <p:cNvGrpSpPr/>
          <p:nvPr/>
        </p:nvGrpSpPr>
        <p:grpSpPr>
          <a:xfrm>
            <a:off x="357120" y="1784520"/>
            <a:ext cx="1643040" cy="1571400"/>
            <a:chOff x="357120" y="1784520"/>
            <a:chExt cx="1643040" cy="1571400"/>
          </a:xfrm>
        </p:grpSpPr>
        <p:sp>
          <p:nvSpPr>
            <p:cNvPr id="1128" name="TextBox 54"/>
            <p:cNvSpPr/>
            <p:nvPr/>
          </p:nvSpPr>
          <p:spPr>
            <a:xfrm>
              <a:off x="357120" y="17845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8 4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  2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8 2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直接连接符 55"/>
            <p:cNvSpPr/>
            <p:nvPr/>
          </p:nvSpPr>
          <p:spPr>
            <a:xfrm>
              <a:off x="499680" y="299880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TextBox 1"/>
          <p:cNvSpPr/>
          <p:nvPr/>
        </p:nvSpPr>
        <p:spPr>
          <a:xfrm>
            <a:off x="285840" y="1355760"/>
            <a:ext cx="84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44-21        353-123        278-75       406-10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57"/>
          <p:cNvSpPr/>
          <p:nvPr/>
        </p:nvSpPr>
        <p:spPr>
          <a:xfrm>
            <a:off x="1214280" y="135576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82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58"/>
          <p:cNvSpPr/>
          <p:nvPr/>
        </p:nvSpPr>
        <p:spPr>
          <a:xfrm>
            <a:off x="3643200" y="135576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Box 59"/>
          <p:cNvSpPr/>
          <p:nvPr/>
        </p:nvSpPr>
        <p:spPr>
          <a:xfrm>
            <a:off x="5857920" y="1355760"/>
            <a:ext cx="121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Box 60"/>
          <p:cNvSpPr/>
          <p:nvPr/>
        </p:nvSpPr>
        <p:spPr>
          <a:xfrm>
            <a:off x="8072280" y="135576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0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组合 11"/>
          <p:cNvGrpSpPr/>
          <p:nvPr/>
        </p:nvGrpSpPr>
        <p:grpSpPr>
          <a:xfrm>
            <a:off x="2643120" y="1784520"/>
            <a:ext cx="1643040" cy="1571400"/>
            <a:chOff x="2643120" y="1784520"/>
            <a:chExt cx="1643040" cy="1571400"/>
          </a:xfrm>
        </p:grpSpPr>
        <p:sp>
          <p:nvSpPr>
            <p:cNvPr id="1136" name="TextBox 62"/>
            <p:cNvSpPr/>
            <p:nvPr/>
          </p:nvSpPr>
          <p:spPr>
            <a:xfrm>
              <a:off x="2643120" y="17845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5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1 2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3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直接连接符 63"/>
            <p:cNvSpPr/>
            <p:nvPr/>
          </p:nvSpPr>
          <p:spPr>
            <a:xfrm>
              <a:off x="2785680" y="299880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组合 11"/>
          <p:cNvGrpSpPr/>
          <p:nvPr/>
        </p:nvGrpSpPr>
        <p:grpSpPr>
          <a:xfrm>
            <a:off x="5072040" y="1784520"/>
            <a:ext cx="1643040" cy="1571400"/>
            <a:chOff x="5072040" y="1784520"/>
            <a:chExt cx="1643040" cy="1571400"/>
          </a:xfrm>
        </p:grpSpPr>
        <p:sp>
          <p:nvSpPr>
            <p:cNvPr id="1139" name="TextBox 65"/>
            <p:cNvSpPr/>
            <p:nvPr/>
          </p:nvSpPr>
          <p:spPr>
            <a:xfrm>
              <a:off x="5072040" y="17845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7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  7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0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直接连接符 66"/>
            <p:cNvSpPr/>
            <p:nvPr/>
          </p:nvSpPr>
          <p:spPr>
            <a:xfrm>
              <a:off x="5214600" y="299880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组合 11"/>
          <p:cNvGrpSpPr/>
          <p:nvPr/>
        </p:nvGrpSpPr>
        <p:grpSpPr>
          <a:xfrm>
            <a:off x="7072200" y="1784520"/>
            <a:ext cx="1643040" cy="1571400"/>
            <a:chOff x="7072200" y="1784520"/>
            <a:chExt cx="1643040" cy="1571400"/>
          </a:xfrm>
        </p:grpSpPr>
        <p:sp>
          <p:nvSpPr>
            <p:cNvPr id="1142" name="TextBox 68"/>
            <p:cNvSpPr/>
            <p:nvPr/>
          </p:nvSpPr>
          <p:spPr>
            <a:xfrm>
              <a:off x="7072200" y="17845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4 0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1 0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0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直接连接符 69"/>
            <p:cNvSpPr/>
            <p:nvPr/>
          </p:nvSpPr>
          <p:spPr>
            <a:xfrm>
              <a:off x="7214760" y="299880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组合 11"/>
          <p:cNvGrpSpPr/>
          <p:nvPr/>
        </p:nvGrpSpPr>
        <p:grpSpPr>
          <a:xfrm>
            <a:off x="357120" y="4284720"/>
            <a:ext cx="1643040" cy="1571400"/>
            <a:chOff x="357120" y="4284720"/>
            <a:chExt cx="1643040" cy="1571400"/>
          </a:xfrm>
        </p:grpSpPr>
        <p:sp>
          <p:nvSpPr>
            <p:cNvPr id="1145" name="TextBox 71"/>
            <p:cNvSpPr/>
            <p:nvPr/>
          </p:nvSpPr>
          <p:spPr>
            <a:xfrm>
              <a:off x="357120" y="42847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5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  6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8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直接连接符 72"/>
            <p:cNvSpPr/>
            <p:nvPr/>
          </p:nvSpPr>
          <p:spPr>
            <a:xfrm>
              <a:off x="499680" y="549900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TextBox 1"/>
          <p:cNvSpPr/>
          <p:nvPr/>
        </p:nvSpPr>
        <p:spPr>
          <a:xfrm>
            <a:off x="285840" y="3855960"/>
            <a:ext cx="84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54-66        480-85         133-74        206-5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74"/>
          <p:cNvSpPr/>
          <p:nvPr/>
        </p:nvSpPr>
        <p:spPr>
          <a:xfrm>
            <a:off x="1285920" y="3855960"/>
            <a:ext cx="121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8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75"/>
          <p:cNvSpPr/>
          <p:nvPr/>
        </p:nvSpPr>
        <p:spPr>
          <a:xfrm>
            <a:off x="3500280" y="385596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9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76"/>
          <p:cNvSpPr/>
          <p:nvPr/>
        </p:nvSpPr>
        <p:spPr>
          <a:xfrm>
            <a:off x="5857920" y="3855960"/>
            <a:ext cx="121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5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77"/>
          <p:cNvSpPr/>
          <p:nvPr/>
        </p:nvSpPr>
        <p:spPr>
          <a:xfrm>
            <a:off x="8072280" y="3855960"/>
            <a:ext cx="857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5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组合 11"/>
          <p:cNvGrpSpPr/>
          <p:nvPr/>
        </p:nvGrpSpPr>
        <p:grpSpPr>
          <a:xfrm>
            <a:off x="2643120" y="4284720"/>
            <a:ext cx="1643040" cy="1571400"/>
            <a:chOff x="2643120" y="4284720"/>
            <a:chExt cx="1643040" cy="1571400"/>
          </a:xfrm>
        </p:grpSpPr>
        <p:sp>
          <p:nvSpPr>
            <p:cNvPr id="1153" name="TextBox 79"/>
            <p:cNvSpPr/>
            <p:nvPr/>
          </p:nvSpPr>
          <p:spPr>
            <a:xfrm>
              <a:off x="2643120" y="42847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4 8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  8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9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直接连接符 80"/>
            <p:cNvSpPr/>
            <p:nvPr/>
          </p:nvSpPr>
          <p:spPr>
            <a:xfrm>
              <a:off x="2785680" y="549900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组合 11"/>
          <p:cNvGrpSpPr/>
          <p:nvPr/>
        </p:nvGrpSpPr>
        <p:grpSpPr>
          <a:xfrm>
            <a:off x="5072040" y="4284720"/>
            <a:ext cx="1643040" cy="1571400"/>
            <a:chOff x="5072040" y="4284720"/>
            <a:chExt cx="1643040" cy="1571400"/>
          </a:xfrm>
        </p:grpSpPr>
        <p:sp>
          <p:nvSpPr>
            <p:cNvPr id="1156" name="TextBox 82"/>
            <p:cNvSpPr/>
            <p:nvPr/>
          </p:nvSpPr>
          <p:spPr>
            <a:xfrm>
              <a:off x="5072040" y="42847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3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  7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直接连接符 83"/>
            <p:cNvSpPr/>
            <p:nvPr/>
          </p:nvSpPr>
          <p:spPr>
            <a:xfrm>
              <a:off x="5214600" y="549900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组合 11"/>
          <p:cNvGrpSpPr/>
          <p:nvPr/>
        </p:nvGrpSpPr>
        <p:grpSpPr>
          <a:xfrm>
            <a:off x="7072200" y="4284720"/>
            <a:ext cx="1643040" cy="1571400"/>
            <a:chOff x="7072200" y="4284720"/>
            <a:chExt cx="1643040" cy="1571400"/>
          </a:xfrm>
        </p:grpSpPr>
        <p:sp>
          <p:nvSpPr>
            <p:cNvPr id="1159" name="TextBox 85"/>
            <p:cNvSpPr/>
            <p:nvPr/>
          </p:nvSpPr>
          <p:spPr>
            <a:xfrm>
              <a:off x="7072200" y="42847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0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  5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5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直接连接符 86"/>
            <p:cNvSpPr/>
            <p:nvPr/>
          </p:nvSpPr>
          <p:spPr>
            <a:xfrm>
              <a:off x="7214760" y="549900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2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64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2" name="文本框 99"/>
          <p:cNvSpPr/>
          <p:nvPr/>
        </p:nvSpPr>
        <p:spPr>
          <a:xfrm>
            <a:off x="520560" y="1128600"/>
            <a:ext cx="8509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列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5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1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9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4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6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1"/>
          <p:cNvSpPr/>
          <p:nvPr/>
        </p:nvSpPr>
        <p:spPr>
          <a:xfrm>
            <a:off x="4599000" y="209520"/>
            <a:ext cx="1341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组合 4"/>
          <p:cNvGrpSpPr/>
          <p:nvPr/>
        </p:nvGrpSpPr>
        <p:grpSpPr>
          <a:xfrm>
            <a:off x="3492360" y="1851120"/>
            <a:ext cx="1643040" cy="1571400"/>
            <a:chOff x="3492360" y="1851120"/>
            <a:chExt cx="1643040" cy="1571400"/>
          </a:xfrm>
        </p:grpSpPr>
        <p:sp>
          <p:nvSpPr>
            <p:cNvPr id="1175" name="TextBox 54"/>
            <p:cNvSpPr/>
            <p:nvPr/>
          </p:nvSpPr>
          <p:spPr>
            <a:xfrm>
              <a:off x="3492360" y="18511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1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1 8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2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直接连接符 3"/>
            <p:cNvSpPr/>
            <p:nvPr/>
          </p:nvSpPr>
          <p:spPr>
            <a:xfrm>
              <a:off x="3722040" y="3079800"/>
              <a:ext cx="1341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7" name="文本框 5"/>
          <p:cNvSpPr/>
          <p:nvPr/>
        </p:nvSpPr>
        <p:spPr>
          <a:xfrm>
            <a:off x="2363760" y="1506600"/>
            <a:ext cx="880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组合 6"/>
          <p:cNvGrpSpPr/>
          <p:nvPr/>
        </p:nvGrpSpPr>
        <p:grpSpPr>
          <a:xfrm>
            <a:off x="520560" y="1994040"/>
            <a:ext cx="1641600" cy="1571400"/>
            <a:chOff x="520560" y="1994040"/>
            <a:chExt cx="1641600" cy="1571400"/>
          </a:xfrm>
        </p:grpSpPr>
        <p:sp>
          <p:nvSpPr>
            <p:cNvPr id="1179" name="TextBox 54"/>
            <p:cNvSpPr/>
            <p:nvPr/>
          </p:nvSpPr>
          <p:spPr>
            <a:xfrm>
              <a:off x="520560" y="1994040"/>
              <a:ext cx="16416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6 5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2 8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6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直接连接符 8"/>
            <p:cNvSpPr/>
            <p:nvPr/>
          </p:nvSpPr>
          <p:spPr>
            <a:xfrm>
              <a:off x="683280" y="3177720"/>
              <a:ext cx="1340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组合 9"/>
          <p:cNvGrpSpPr/>
          <p:nvPr/>
        </p:nvGrpSpPr>
        <p:grpSpPr>
          <a:xfrm>
            <a:off x="6122880" y="1851120"/>
            <a:ext cx="1643040" cy="1555560"/>
            <a:chOff x="6122880" y="1851120"/>
            <a:chExt cx="1643040" cy="1555560"/>
          </a:xfrm>
        </p:grpSpPr>
        <p:sp>
          <p:nvSpPr>
            <p:cNvPr id="1182" name="TextBox 54"/>
            <p:cNvSpPr/>
            <p:nvPr/>
          </p:nvSpPr>
          <p:spPr>
            <a:xfrm>
              <a:off x="6122880" y="1851120"/>
              <a:ext cx="164304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9 1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4 9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4 1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直接连接符 13"/>
            <p:cNvSpPr/>
            <p:nvPr/>
          </p:nvSpPr>
          <p:spPr>
            <a:xfrm>
              <a:off x="6352560" y="3067200"/>
              <a:ext cx="1341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组合 14"/>
          <p:cNvGrpSpPr/>
          <p:nvPr/>
        </p:nvGrpSpPr>
        <p:grpSpPr>
          <a:xfrm>
            <a:off x="3421080" y="4259160"/>
            <a:ext cx="1643040" cy="1571760"/>
            <a:chOff x="3421080" y="4259160"/>
            <a:chExt cx="1643040" cy="1571760"/>
          </a:xfrm>
        </p:grpSpPr>
        <p:sp>
          <p:nvSpPr>
            <p:cNvPr id="1185" name="TextBox 54"/>
            <p:cNvSpPr/>
            <p:nvPr/>
          </p:nvSpPr>
          <p:spPr>
            <a:xfrm>
              <a:off x="3421080" y="425916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6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1 8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7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直接连接符 16"/>
            <p:cNvSpPr/>
            <p:nvPr/>
          </p:nvSpPr>
          <p:spPr>
            <a:xfrm>
              <a:off x="3650760" y="5487840"/>
              <a:ext cx="1341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组合 17"/>
          <p:cNvGrpSpPr/>
          <p:nvPr/>
        </p:nvGrpSpPr>
        <p:grpSpPr>
          <a:xfrm>
            <a:off x="6202440" y="4259160"/>
            <a:ext cx="1643040" cy="1571760"/>
            <a:chOff x="6202440" y="4259160"/>
            <a:chExt cx="1643040" cy="1571760"/>
          </a:xfrm>
        </p:grpSpPr>
        <p:sp>
          <p:nvSpPr>
            <p:cNvPr id="1188" name="TextBox 54"/>
            <p:cNvSpPr/>
            <p:nvPr/>
          </p:nvSpPr>
          <p:spPr>
            <a:xfrm>
              <a:off x="6202440" y="425916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4 3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2 1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1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直接连接符 19"/>
            <p:cNvSpPr/>
            <p:nvPr/>
          </p:nvSpPr>
          <p:spPr>
            <a:xfrm>
              <a:off x="6432120" y="5487840"/>
              <a:ext cx="1341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组合 20"/>
          <p:cNvGrpSpPr/>
          <p:nvPr/>
        </p:nvGrpSpPr>
        <p:grpSpPr>
          <a:xfrm>
            <a:off x="441360" y="4259160"/>
            <a:ext cx="1643040" cy="1571760"/>
            <a:chOff x="441360" y="4259160"/>
            <a:chExt cx="1643040" cy="1571760"/>
          </a:xfrm>
        </p:grpSpPr>
        <p:sp>
          <p:nvSpPr>
            <p:cNvPr id="1191" name="TextBox 54"/>
            <p:cNvSpPr/>
            <p:nvPr/>
          </p:nvSpPr>
          <p:spPr>
            <a:xfrm>
              <a:off x="441360" y="425916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7 2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3 4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7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直接连接符 22"/>
            <p:cNvSpPr/>
            <p:nvPr/>
          </p:nvSpPr>
          <p:spPr>
            <a:xfrm>
              <a:off x="671040" y="5487840"/>
              <a:ext cx="1341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文本框 23"/>
          <p:cNvSpPr/>
          <p:nvPr/>
        </p:nvSpPr>
        <p:spPr>
          <a:xfrm>
            <a:off x="5135400" y="1508040"/>
            <a:ext cx="881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24"/>
          <p:cNvSpPr/>
          <p:nvPr/>
        </p:nvSpPr>
        <p:spPr>
          <a:xfrm>
            <a:off x="7765920" y="1508040"/>
            <a:ext cx="881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25"/>
          <p:cNvSpPr/>
          <p:nvPr/>
        </p:nvSpPr>
        <p:spPr>
          <a:xfrm>
            <a:off x="2303640" y="3565440"/>
            <a:ext cx="880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26"/>
          <p:cNvSpPr/>
          <p:nvPr/>
        </p:nvSpPr>
        <p:spPr>
          <a:xfrm>
            <a:off x="4992840" y="3565440"/>
            <a:ext cx="880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27"/>
          <p:cNvSpPr/>
          <p:nvPr/>
        </p:nvSpPr>
        <p:spPr>
          <a:xfrm>
            <a:off x="7994520" y="3565440"/>
            <a:ext cx="881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99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01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2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09" name="文本框 99"/>
          <p:cNvSpPr/>
          <p:nvPr/>
        </p:nvSpPr>
        <p:spPr>
          <a:xfrm>
            <a:off x="365040" y="795240"/>
            <a:ext cx="8166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在横线上填上适当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 7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65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 60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1"/>
          <p:cNvSpPr/>
          <p:nvPr/>
        </p:nvSpPr>
        <p:spPr>
          <a:xfrm>
            <a:off x="2193840" y="1627200"/>
            <a:ext cx="8334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文本框 3"/>
          <p:cNvSpPr/>
          <p:nvPr/>
        </p:nvSpPr>
        <p:spPr>
          <a:xfrm>
            <a:off x="2193840" y="2523960"/>
            <a:ext cx="8334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6:36:41Z</dcterms:created>
  <dc:creator/>
  <dc:description/>
  <dc:language>en-US</dc:language>
  <cp:lastModifiedBy>万润仪器贸易公司</cp:lastModifiedBy>
  <dcterms:modified xsi:type="dcterms:W3CDTF">2020-08-21T01:20:2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